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1B9-95C2-44BB-9B7E-E33ADE0A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461-D629-44EA-BF50-104A0F47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6A1-C362-4C4E-9DD2-D8F22882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289-274B-4CD8-A764-F9576539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D37E-E5F5-4CE5-B896-AEDBDD14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D77E-1965-43AA-A558-78FA6338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46C2-09B9-4A0D-844C-234ADC9B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CA32-52F9-4DB3-B0FF-188795CE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0659-A46E-4571-A0B9-6437419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4083-E241-4665-A9F1-5F237912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721C-5896-4D52-A952-333E34B0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BCC-47EF-4A8D-BF6F-43D931D1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4E40-F337-4DAC-A1E9-62A8CD0F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4DFE-6538-4715-A561-64586C78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8AEB-0210-4949-9831-B6ACA034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B93E-BA70-4D94-9C9E-A0A570C4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5D6B-D83B-474A-8155-A8E70CE0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F6A-1DE1-4D43-B0EE-88885563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37F-0F3A-47AA-AB28-5FEC61E3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560-3482-49E7-9D0A-5AB332E3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9C4-B9F7-41BE-AB36-FA4C6961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9DF-7CBB-4F3B-8727-5DDC5747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CD1-B4D6-434E-91A5-95A299E6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D2C-579B-428A-A9C4-A8C68E9E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9BA7-F45C-43B2-92C8-959B1ACEB6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39A7-41C8-49EE-AAB6-4DD4A4ADCF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arm-up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 + -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9 + (-1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20 - -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t 12: Integer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ying and Dividing Integ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ctive: To multiply and divide integer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ules: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Same Sig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swer is Posit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Different sig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606920" y="3537000"/>
            <a:ext cx="1440" cy="7920"/>
          </a:xfrm>
          <a:custGeom>
            <a:avLst/>
            <a:gdLst/>
            <a:ahLst/>
            <a:rect l="l" t="t" r="r" b="b"/>
            <a:pathLst>
              <a:path w="1" h="25">
                <a:moveTo>
                  <a:pt x="12799" y="9823"/>
                </a:moveTo>
                <a:cubicBezTo>
                  <a:pt x="12799" y="9831"/>
                  <a:pt x="12799" y="9839"/>
                  <a:pt x="12799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0000" y="4143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998" y="11509"/>
                </a:moveTo>
                <a:lnTo>
                  <a:pt x="12998" y="11509"/>
                </a:lnTo>
                <a:lnTo>
                  <a:pt x="12998" y="1150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84920" y="2678040"/>
            <a:ext cx="1697040" cy="546120"/>
          </a:xfrm>
          <a:custGeom>
            <a:avLst/>
            <a:gdLst/>
            <a:ahLst/>
            <a:rect l="l" t="t" r="r" b="b"/>
            <a:pathLst>
              <a:path w="4714" h="1514">
                <a:moveTo>
                  <a:pt x="16346" y="8260"/>
                </a:moveTo>
                <a:cubicBezTo>
                  <a:pt x="16362" y="8213"/>
                  <a:pt x="16393" y="8245"/>
                  <a:pt x="16446" y="8235"/>
                </a:cubicBezTo>
                <a:cubicBezTo>
                  <a:pt x="16577" y="8211"/>
                  <a:pt x="16709" y="8193"/>
                  <a:pt x="16842" y="8186"/>
                </a:cubicBezTo>
                <a:cubicBezTo>
                  <a:pt x="16922" y="8182"/>
                  <a:pt x="16989" y="8174"/>
                  <a:pt x="17066" y="8161"/>
                </a:cubicBezTo>
              </a:path>
              <a:path w="4714" h="1514">
                <a:moveTo>
                  <a:pt x="17413" y="7714"/>
                </a:moveTo>
                <a:cubicBezTo>
                  <a:pt x="17437" y="7855"/>
                  <a:pt x="17429" y="7894"/>
                  <a:pt x="17388" y="8037"/>
                </a:cubicBezTo>
                <a:cubicBezTo>
                  <a:pt x="17369" y="8111"/>
                  <a:pt x="17361" y="8118"/>
                  <a:pt x="17363" y="8161"/>
                </a:cubicBezTo>
                <a:cubicBezTo>
                  <a:pt x="17505" y="8161"/>
                  <a:pt x="17674" y="8135"/>
                  <a:pt x="17810" y="8186"/>
                </a:cubicBezTo>
                <a:cubicBezTo>
                  <a:pt x="17874" y="8210"/>
                  <a:pt x="17948" y="8256"/>
                  <a:pt x="17983" y="8310"/>
                </a:cubicBezTo>
                <a:cubicBezTo>
                  <a:pt x="17995" y="8328"/>
                  <a:pt x="18069" y="8440"/>
                  <a:pt x="18058" y="8458"/>
                </a:cubicBezTo>
                <a:cubicBezTo>
                  <a:pt x="17995" y="8555"/>
                  <a:pt x="17812" y="8549"/>
                  <a:pt x="17711" y="8533"/>
                </a:cubicBezTo>
                <a:cubicBezTo>
                  <a:pt x="17638" y="8521"/>
                  <a:pt x="17551" y="8465"/>
                  <a:pt x="17487" y="8434"/>
                </a:cubicBezTo>
              </a:path>
              <a:path w="4714" h="1514">
                <a:moveTo>
                  <a:pt x="17487" y="7813"/>
                </a:moveTo>
                <a:cubicBezTo>
                  <a:pt x="17598" y="7767"/>
                  <a:pt x="17758" y="7789"/>
                  <a:pt x="17884" y="7789"/>
                </a:cubicBezTo>
                <a:cubicBezTo>
                  <a:pt x="17973" y="7789"/>
                  <a:pt x="18029" y="7798"/>
                  <a:pt x="18107" y="7764"/>
                </a:cubicBezTo>
              </a:path>
              <a:path w="4714" h="1514">
                <a:moveTo>
                  <a:pt x="18901" y="7441"/>
                </a:moveTo>
                <a:cubicBezTo>
                  <a:pt x="18815" y="7463"/>
                  <a:pt x="18754" y="7534"/>
                  <a:pt x="18703" y="7615"/>
                </a:cubicBezTo>
                <a:cubicBezTo>
                  <a:pt x="18613" y="7759"/>
                  <a:pt x="18504" y="7875"/>
                  <a:pt x="18405" y="8012"/>
                </a:cubicBezTo>
                <a:cubicBezTo>
                  <a:pt x="18328" y="8119"/>
                  <a:pt x="18345" y="8238"/>
                  <a:pt x="18380" y="8359"/>
                </a:cubicBezTo>
                <a:cubicBezTo>
                  <a:pt x="18409" y="8459"/>
                  <a:pt x="18467" y="8517"/>
                  <a:pt x="18579" y="8508"/>
                </a:cubicBezTo>
                <a:cubicBezTo>
                  <a:pt x="18620" y="8500"/>
                  <a:pt x="18662" y="8491"/>
                  <a:pt x="18703" y="8483"/>
                </a:cubicBezTo>
              </a:path>
              <a:path w="4714" h="1514">
                <a:moveTo>
                  <a:pt x="19025" y="8186"/>
                </a:moveTo>
                <a:cubicBezTo>
                  <a:pt x="19107" y="8186"/>
                  <a:pt x="19208" y="8210"/>
                  <a:pt x="19273" y="8161"/>
                </a:cubicBezTo>
              </a:path>
              <a:path w="4714" h="1514">
                <a:moveTo>
                  <a:pt x="19422" y="7962"/>
                </a:moveTo>
                <a:cubicBezTo>
                  <a:pt x="19577" y="7936"/>
                  <a:pt x="19714" y="7929"/>
                  <a:pt x="19869" y="7962"/>
                </a:cubicBezTo>
                <a:cubicBezTo>
                  <a:pt x="19986" y="7987"/>
                  <a:pt x="20120" y="8026"/>
                  <a:pt x="20141" y="8161"/>
                </a:cubicBezTo>
                <a:cubicBezTo>
                  <a:pt x="20163" y="8299"/>
                  <a:pt x="20103" y="8410"/>
                  <a:pt x="19993" y="8483"/>
                </a:cubicBezTo>
                <a:cubicBezTo>
                  <a:pt x="19862" y="8570"/>
                  <a:pt x="19710" y="8535"/>
                  <a:pt x="19571" y="8483"/>
                </a:cubicBezTo>
                <a:cubicBezTo>
                  <a:pt x="19520" y="8464"/>
                  <a:pt x="19498" y="8418"/>
                  <a:pt x="19472" y="8384"/>
                </a:cubicBezTo>
                <a:cubicBezTo>
                  <a:pt x="19464" y="8376"/>
                  <a:pt x="19455" y="8367"/>
                  <a:pt x="19447" y="8359"/>
                </a:cubicBezTo>
                <a:cubicBezTo>
                  <a:pt x="19512" y="8343"/>
                  <a:pt x="19567" y="8334"/>
                  <a:pt x="19645" y="8334"/>
                </a:cubicBezTo>
                <a:cubicBezTo>
                  <a:pt x="19752" y="8334"/>
                  <a:pt x="19873" y="8383"/>
                  <a:pt x="19968" y="8434"/>
                </a:cubicBezTo>
                <a:cubicBezTo>
                  <a:pt x="20035" y="8470"/>
                  <a:pt x="20075" y="8482"/>
                  <a:pt x="20141" y="8508"/>
                </a:cubicBezTo>
                <a:cubicBezTo>
                  <a:pt x="20212" y="8537"/>
                  <a:pt x="20236" y="8572"/>
                  <a:pt x="20315" y="8582"/>
                </a:cubicBezTo>
              </a:path>
              <a:path w="4714" h="1514">
                <a:moveTo>
                  <a:pt x="20439" y="7466"/>
                </a:moveTo>
                <a:cubicBezTo>
                  <a:pt x="20423" y="7577"/>
                  <a:pt x="20428" y="7533"/>
                  <a:pt x="20563" y="7640"/>
                </a:cubicBezTo>
                <a:cubicBezTo>
                  <a:pt x="20736" y="7777"/>
                  <a:pt x="20789" y="7871"/>
                  <a:pt x="20886" y="8062"/>
                </a:cubicBezTo>
                <a:cubicBezTo>
                  <a:pt x="20951" y="8189"/>
                  <a:pt x="21041" y="8337"/>
                  <a:pt x="21059" y="8483"/>
                </a:cubicBezTo>
                <a:cubicBezTo>
                  <a:pt x="21075" y="8616"/>
                  <a:pt x="21028" y="8722"/>
                  <a:pt x="20960" y="8830"/>
                </a:cubicBezTo>
                <a:cubicBezTo>
                  <a:pt x="20907" y="8915"/>
                  <a:pt x="20835" y="8945"/>
                  <a:pt x="20737" y="8954"/>
                </a:cubicBezTo>
                <a:cubicBezTo>
                  <a:pt x="20670" y="8954"/>
                  <a:pt x="20636" y="8950"/>
                  <a:pt x="20588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07080" y="3419640"/>
            <a:ext cx="393840" cy="358560"/>
          </a:xfrm>
          <a:custGeom>
            <a:avLst/>
            <a:gdLst/>
            <a:ahLst/>
            <a:rect l="l" t="t" r="r" b="b"/>
            <a:pathLst>
              <a:path w="1093" h="993">
                <a:moveTo>
                  <a:pt x="18355" y="9500"/>
                </a:moveTo>
                <a:cubicBezTo>
                  <a:pt x="18392" y="9562"/>
                  <a:pt x="18400" y="9698"/>
                  <a:pt x="18405" y="9773"/>
                </a:cubicBezTo>
                <a:cubicBezTo>
                  <a:pt x="18416" y="9931"/>
                  <a:pt x="18430" y="10084"/>
                  <a:pt x="18430" y="10244"/>
                </a:cubicBezTo>
                <a:cubicBezTo>
                  <a:pt x="18430" y="10302"/>
                  <a:pt x="18430" y="10311"/>
                  <a:pt x="18430" y="10344"/>
                </a:cubicBezTo>
              </a:path>
              <a:path w="1093" h="993">
                <a:moveTo>
                  <a:pt x="19174" y="9699"/>
                </a:moveTo>
                <a:cubicBezTo>
                  <a:pt x="19140" y="9680"/>
                  <a:pt x="19034" y="9633"/>
                  <a:pt x="18976" y="9599"/>
                </a:cubicBezTo>
                <a:cubicBezTo>
                  <a:pt x="18881" y="9544"/>
                  <a:pt x="18820" y="9645"/>
                  <a:pt x="18752" y="9723"/>
                </a:cubicBezTo>
                <a:cubicBezTo>
                  <a:pt x="18669" y="9818"/>
                  <a:pt x="18549" y="9981"/>
                  <a:pt x="18554" y="10120"/>
                </a:cubicBezTo>
                <a:cubicBezTo>
                  <a:pt x="18557" y="10220"/>
                  <a:pt x="18630" y="10317"/>
                  <a:pt x="18678" y="10393"/>
                </a:cubicBezTo>
                <a:cubicBezTo>
                  <a:pt x="18744" y="10497"/>
                  <a:pt x="18857" y="10511"/>
                  <a:pt x="18976" y="10492"/>
                </a:cubicBezTo>
                <a:cubicBezTo>
                  <a:pt x="19097" y="10473"/>
                  <a:pt x="19227" y="10420"/>
                  <a:pt x="19323" y="10344"/>
                </a:cubicBezTo>
                <a:cubicBezTo>
                  <a:pt x="19423" y="10265"/>
                  <a:pt x="19443" y="10139"/>
                  <a:pt x="19447" y="10021"/>
                </a:cubicBezTo>
                <a:cubicBezTo>
                  <a:pt x="19452" y="9883"/>
                  <a:pt x="19367" y="9838"/>
                  <a:pt x="19273" y="9773"/>
                </a:cubicBezTo>
                <a:cubicBezTo>
                  <a:pt x="19221" y="9737"/>
                  <a:pt x="19160" y="9707"/>
                  <a:pt x="19124" y="9674"/>
                </a:cubicBezTo>
                <a:cubicBezTo>
                  <a:pt x="19099" y="9649"/>
                  <a:pt x="19075" y="9624"/>
                  <a:pt x="19050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4760" y="4491000"/>
            <a:ext cx="1428480" cy="554040"/>
          </a:xfrm>
          <a:custGeom>
            <a:avLst/>
            <a:gdLst/>
            <a:ahLst/>
            <a:rect l="l" t="t" r="r" b="b"/>
            <a:pathLst>
              <a:path w="3970" h="1539">
                <a:moveTo>
                  <a:pt x="17289" y="13444"/>
                </a:moveTo>
                <a:cubicBezTo>
                  <a:pt x="17377" y="13457"/>
                  <a:pt x="17390" y="13455"/>
                  <a:pt x="17487" y="13444"/>
                </a:cubicBezTo>
                <a:cubicBezTo>
                  <a:pt x="17601" y="13431"/>
                  <a:pt x="17698" y="13415"/>
                  <a:pt x="17810" y="13395"/>
                </a:cubicBezTo>
                <a:cubicBezTo>
                  <a:pt x="17873" y="13395"/>
                  <a:pt x="17900" y="13387"/>
                  <a:pt x="17934" y="13345"/>
                </a:cubicBezTo>
              </a:path>
              <a:path w="3970" h="1539">
                <a:moveTo>
                  <a:pt x="18207" y="13022"/>
                </a:moveTo>
                <a:cubicBezTo>
                  <a:pt x="18207" y="13108"/>
                  <a:pt x="18186" y="13184"/>
                  <a:pt x="18182" y="13271"/>
                </a:cubicBezTo>
                <a:cubicBezTo>
                  <a:pt x="18182" y="13279"/>
                  <a:pt x="18182" y="13287"/>
                  <a:pt x="18182" y="13295"/>
                </a:cubicBezTo>
                <a:cubicBezTo>
                  <a:pt x="18351" y="13295"/>
                  <a:pt x="18542" y="13282"/>
                  <a:pt x="18703" y="13345"/>
                </a:cubicBezTo>
                <a:cubicBezTo>
                  <a:pt x="18798" y="13382"/>
                  <a:pt x="18871" y="13443"/>
                  <a:pt x="18876" y="13543"/>
                </a:cubicBezTo>
                <a:cubicBezTo>
                  <a:pt x="18881" y="13642"/>
                  <a:pt x="18804" y="13695"/>
                  <a:pt x="18703" y="13692"/>
                </a:cubicBezTo>
                <a:cubicBezTo>
                  <a:pt x="18613" y="13669"/>
                  <a:pt x="18589" y="13661"/>
                  <a:pt x="18529" y="13667"/>
                </a:cubicBezTo>
              </a:path>
              <a:path w="3970" h="1539">
                <a:moveTo>
                  <a:pt x="18331" y="13072"/>
                </a:moveTo>
                <a:cubicBezTo>
                  <a:pt x="18375" y="13012"/>
                  <a:pt x="18495" y="12995"/>
                  <a:pt x="18579" y="12973"/>
                </a:cubicBezTo>
                <a:cubicBezTo>
                  <a:pt x="18695" y="12943"/>
                  <a:pt x="18811" y="12946"/>
                  <a:pt x="18926" y="12923"/>
                </a:cubicBezTo>
                <a:cubicBezTo>
                  <a:pt x="18983" y="12904"/>
                  <a:pt x="18990" y="12895"/>
                  <a:pt x="19025" y="12898"/>
                </a:cubicBezTo>
              </a:path>
              <a:path w="3970" h="1539">
                <a:moveTo>
                  <a:pt x="19769" y="12601"/>
                </a:moveTo>
                <a:cubicBezTo>
                  <a:pt x="19672" y="12650"/>
                  <a:pt x="19600" y="12709"/>
                  <a:pt x="19521" y="12799"/>
                </a:cubicBezTo>
                <a:cubicBezTo>
                  <a:pt x="19384" y="12956"/>
                  <a:pt x="19349" y="13115"/>
                  <a:pt x="19372" y="13320"/>
                </a:cubicBezTo>
                <a:cubicBezTo>
                  <a:pt x="19384" y="13427"/>
                  <a:pt x="19403" y="13697"/>
                  <a:pt x="19496" y="13767"/>
                </a:cubicBezTo>
                <a:cubicBezTo>
                  <a:pt x="19586" y="13834"/>
                  <a:pt x="19751" y="13863"/>
                  <a:pt x="19844" y="13816"/>
                </a:cubicBezTo>
              </a:path>
              <a:path w="3970" h="1539">
                <a:moveTo>
                  <a:pt x="19918" y="12948"/>
                </a:moveTo>
                <a:cubicBezTo>
                  <a:pt x="20013" y="12881"/>
                  <a:pt x="20069" y="12827"/>
                  <a:pt x="20216" y="12874"/>
                </a:cubicBezTo>
                <a:cubicBezTo>
                  <a:pt x="20324" y="12909"/>
                  <a:pt x="20426" y="12967"/>
                  <a:pt x="20464" y="13072"/>
                </a:cubicBezTo>
                <a:cubicBezTo>
                  <a:pt x="20512" y="13207"/>
                  <a:pt x="20504" y="13355"/>
                  <a:pt x="20414" y="13469"/>
                </a:cubicBezTo>
                <a:cubicBezTo>
                  <a:pt x="20332" y="13573"/>
                  <a:pt x="20163" y="13612"/>
                  <a:pt x="20042" y="13568"/>
                </a:cubicBezTo>
                <a:cubicBezTo>
                  <a:pt x="19948" y="13534"/>
                  <a:pt x="19796" y="13465"/>
                  <a:pt x="19819" y="13345"/>
                </a:cubicBezTo>
                <a:cubicBezTo>
                  <a:pt x="19840" y="13234"/>
                  <a:pt x="19979" y="13279"/>
                  <a:pt x="20042" y="13295"/>
                </a:cubicBezTo>
                <a:cubicBezTo>
                  <a:pt x="20174" y="13328"/>
                  <a:pt x="20242" y="13350"/>
                  <a:pt x="20340" y="13444"/>
                </a:cubicBezTo>
                <a:cubicBezTo>
                  <a:pt x="20434" y="13535"/>
                  <a:pt x="20543" y="13603"/>
                  <a:pt x="20638" y="13692"/>
                </a:cubicBezTo>
                <a:cubicBezTo>
                  <a:pt x="20662" y="13692"/>
                  <a:pt x="20670" y="13692"/>
                  <a:pt x="20662" y="13717"/>
                </a:cubicBezTo>
              </a:path>
              <a:path w="3970" h="1539">
                <a:moveTo>
                  <a:pt x="20389" y="12477"/>
                </a:moveTo>
                <a:cubicBezTo>
                  <a:pt x="20562" y="12539"/>
                  <a:pt x="20706" y="12589"/>
                  <a:pt x="20861" y="12700"/>
                </a:cubicBezTo>
                <a:cubicBezTo>
                  <a:pt x="21057" y="12840"/>
                  <a:pt x="21178" y="13064"/>
                  <a:pt x="21233" y="13295"/>
                </a:cubicBezTo>
                <a:cubicBezTo>
                  <a:pt x="21281" y="13496"/>
                  <a:pt x="21233" y="13665"/>
                  <a:pt x="21134" y="13841"/>
                </a:cubicBezTo>
                <a:cubicBezTo>
                  <a:pt x="21075" y="13946"/>
                  <a:pt x="21013" y="13969"/>
                  <a:pt x="20910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6160" y="5126040"/>
            <a:ext cx="776520" cy="428760"/>
          </a:xfrm>
          <a:custGeom>
            <a:avLst/>
            <a:gdLst/>
            <a:ahLst/>
            <a:rect l="l" t="t" r="r" b="b"/>
            <a:pathLst>
              <a:path w="2159" h="1192">
                <a:moveTo>
                  <a:pt x="18405" y="14808"/>
                </a:moveTo>
                <a:cubicBezTo>
                  <a:pt x="18529" y="14808"/>
                  <a:pt x="18653" y="14808"/>
                  <a:pt x="18777" y="14808"/>
                </a:cubicBezTo>
              </a:path>
              <a:path w="2159" h="1192">
                <a:moveTo>
                  <a:pt x="19224" y="14288"/>
                </a:moveTo>
                <a:cubicBezTo>
                  <a:pt x="19305" y="14371"/>
                  <a:pt x="19315" y="14631"/>
                  <a:pt x="19323" y="14759"/>
                </a:cubicBezTo>
                <a:cubicBezTo>
                  <a:pt x="19331" y="14892"/>
                  <a:pt x="19311" y="15080"/>
                  <a:pt x="19372" y="15205"/>
                </a:cubicBezTo>
                <a:cubicBezTo>
                  <a:pt x="19372" y="15197"/>
                  <a:pt x="19372" y="15188"/>
                  <a:pt x="19372" y="15180"/>
                </a:cubicBezTo>
              </a:path>
              <a:path w="2159" h="1192">
                <a:moveTo>
                  <a:pt x="20216" y="14238"/>
                </a:moveTo>
                <a:cubicBezTo>
                  <a:pt x="20080" y="14332"/>
                  <a:pt x="19988" y="14423"/>
                  <a:pt x="19893" y="14560"/>
                </a:cubicBezTo>
                <a:cubicBezTo>
                  <a:pt x="19780" y="14722"/>
                  <a:pt x="19699" y="14903"/>
                  <a:pt x="19720" y="15106"/>
                </a:cubicBezTo>
                <a:cubicBezTo>
                  <a:pt x="19729" y="15199"/>
                  <a:pt x="19729" y="15387"/>
                  <a:pt x="19844" y="15429"/>
                </a:cubicBezTo>
                <a:cubicBezTo>
                  <a:pt x="19965" y="15474"/>
                  <a:pt x="20166" y="15425"/>
                  <a:pt x="20265" y="15354"/>
                </a:cubicBezTo>
                <a:cubicBezTo>
                  <a:pt x="20391" y="15265"/>
                  <a:pt x="20456" y="15092"/>
                  <a:pt x="20513" y="14957"/>
                </a:cubicBezTo>
                <a:cubicBezTo>
                  <a:pt x="20579" y="14802"/>
                  <a:pt x="20593" y="14632"/>
                  <a:pt x="20489" y="14486"/>
                </a:cubicBezTo>
                <a:cubicBezTo>
                  <a:pt x="20466" y="14454"/>
                  <a:pt x="20362" y="14349"/>
                  <a:pt x="20315" y="14337"/>
                </a:cubicBezTo>
                <a:cubicBezTo>
                  <a:pt x="20265" y="14324"/>
                  <a:pt x="20212" y="14260"/>
                  <a:pt x="20141" y="14263"/>
                </a:cubicBezTo>
                <a:cubicBezTo>
                  <a:pt x="20106" y="14264"/>
                  <a:pt x="20048" y="14299"/>
                  <a:pt x="20017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t’s try some together: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-2 (-9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-5 (7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3 (-5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 3 (-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867040" y="1928880"/>
            <a:ext cx="241200" cy="312840"/>
          </a:xfrm>
          <a:custGeom>
            <a:avLst/>
            <a:gdLst/>
            <a:ahLst/>
            <a:rect l="l" t="t" r="r" b="b"/>
            <a:pathLst>
              <a:path w="671" h="869">
                <a:moveTo>
                  <a:pt x="7962" y="6226"/>
                </a:moveTo>
                <a:cubicBezTo>
                  <a:pt x="7962" y="6218"/>
                  <a:pt x="7962" y="6209"/>
                  <a:pt x="7962" y="6201"/>
                </a:cubicBezTo>
                <a:cubicBezTo>
                  <a:pt x="8032" y="6183"/>
                  <a:pt x="8116" y="6136"/>
                  <a:pt x="8186" y="6102"/>
                </a:cubicBezTo>
                <a:cubicBezTo>
                  <a:pt x="8239" y="6077"/>
                  <a:pt x="8250" y="6064"/>
                  <a:pt x="8285" y="6052"/>
                </a:cubicBezTo>
              </a:path>
              <a:path w="671" h="869">
                <a:moveTo>
                  <a:pt x="7962" y="5457"/>
                </a:moveTo>
                <a:cubicBezTo>
                  <a:pt x="8056" y="5457"/>
                  <a:pt x="8084" y="5433"/>
                  <a:pt x="8186" y="5407"/>
                </a:cubicBezTo>
                <a:cubicBezTo>
                  <a:pt x="8261" y="5388"/>
                  <a:pt x="8427" y="5353"/>
                  <a:pt x="8508" y="5358"/>
                </a:cubicBezTo>
                <a:cubicBezTo>
                  <a:pt x="8549" y="5366"/>
                  <a:pt x="8591" y="5375"/>
                  <a:pt x="8632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67080" y="1830240"/>
            <a:ext cx="490680" cy="474840"/>
          </a:xfrm>
          <a:custGeom>
            <a:avLst/>
            <a:gdLst/>
            <a:ahLst/>
            <a:rect l="l" t="t" r="r" b="b"/>
            <a:pathLst>
              <a:path w="1366" h="1316">
                <a:moveTo>
                  <a:pt x="9351" y="5259"/>
                </a:moveTo>
                <a:cubicBezTo>
                  <a:pt x="9351" y="5395"/>
                  <a:pt x="9363" y="5518"/>
                  <a:pt x="9376" y="5655"/>
                </a:cubicBezTo>
                <a:cubicBezTo>
                  <a:pt x="9398" y="5878"/>
                  <a:pt x="9440" y="6102"/>
                  <a:pt x="9451" y="6325"/>
                </a:cubicBezTo>
                <a:cubicBezTo>
                  <a:pt x="9451" y="6350"/>
                  <a:pt x="9451" y="6358"/>
                  <a:pt x="9475" y="6350"/>
                </a:cubicBezTo>
              </a:path>
              <a:path w="1366" h="1316">
                <a:moveTo>
                  <a:pt x="10542" y="5879"/>
                </a:moveTo>
                <a:cubicBezTo>
                  <a:pt x="10586" y="5968"/>
                  <a:pt x="10642" y="6042"/>
                  <a:pt x="10691" y="6127"/>
                </a:cubicBezTo>
                <a:cubicBezTo>
                  <a:pt x="10750" y="6230"/>
                  <a:pt x="10673" y="6288"/>
                  <a:pt x="10592" y="6350"/>
                </a:cubicBezTo>
                <a:cubicBezTo>
                  <a:pt x="10455" y="6456"/>
                  <a:pt x="10354" y="6366"/>
                  <a:pt x="10220" y="6300"/>
                </a:cubicBezTo>
                <a:cubicBezTo>
                  <a:pt x="10150" y="6265"/>
                  <a:pt x="10031" y="6206"/>
                  <a:pt x="9996" y="6127"/>
                </a:cubicBezTo>
                <a:cubicBezTo>
                  <a:pt x="9996" y="6119"/>
                  <a:pt x="9996" y="6110"/>
                  <a:pt x="9996" y="6102"/>
                </a:cubicBezTo>
                <a:cubicBezTo>
                  <a:pt x="10091" y="6007"/>
                  <a:pt x="10180" y="5902"/>
                  <a:pt x="10294" y="5829"/>
                </a:cubicBezTo>
                <a:cubicBezTo>
                  <a:pt x="10362" y="5786"/>
                  <a:pt x="10478" y="5679"/>
                  <a:pt x="10517" y="5606"/>
                </a:cubicBezTo>
                <a:cubicBezTo>
                  <a:pt x="10542" y="5561"/>
                  <a:pt x="10561" y="5411"/>
                  <a:pt x="10542" y="5358"/>
                </a:cubicBezTo>
                <a:cubicBezTo>
                  <a:pt x="10523" y="5305"/>
                  <a:pt x="10463" y="5198"/>
                  <a:pt x="10418" y="5159"/>
                </a:cubicBezTo>
                <a:cubicBezTo>
                  <a:pt x="10334" y="5087"/>
                  <a:pt x="10215" y="5091"/>
                  <a:pt x="10120" y="5110"/>
                </a:cubicBezTo>
                <a:cubicBezTo>
                  <a:pt x="10063" y="5122"/>
                  <a:pt x="9919" y="5160"/>
                  <a:pt x="9897" y="5234"/>
                </a:cubicBezTo>
                <a:cubicBezTo>
                  <a:pt x="9867" y="5339"/>
                  <a:pt x="10041" y="5442"/>
                  <a:pt x="10096" y="5507"/>
                </a:cubicBezTo>
                <a:cubicBezTo>
                  <a:pt x="10191" y="5619"/>
                  <a:pt x="10308" y="5736"/>
                  <a:pt x="10418" y="5829"/>
                </a:cubicBezTo>
                <a:cubicBezTo>
                  <a:pt x="10490" y="5889"/>
                  <a:pt x="10475" y="5893"/>
                  <a:pt x="10542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70120" y="2982960"/>
            <a:ext cx="1278000" cy="357120"/>
          </a:xfrm>
          <a:custGeom>
            <a:avLst/>
            <a:gdLst/>
            <a:ahLst/>
            <a:rect l="l" t="t" r="r" b="b"/>
            <a:pathLst>
              <a:path w="3548" h="993">
                <a:moveTo>
                  <a:pt x="7565" y="8632"/>
                </a:moveTo>
                <a:cubicBezTo>
                  <a:pt x="7674" y="8632"/>
                  <a:pt x="7783" y="8609"/>
                  <a:pt x="7888" y="8582"/>
                </a:cubicBezTo>
                <a:cubicBezTo>
                  <a:pt x="7948" y="8563"/>
                  <a:pt x="7983" y="8544"/>
                  <a:pt x="7938" y="8582"/>
                </a:cubicBezTo>
              </a:path>
              <a:path w="3548" h="993">
                <a:moveTo>
                  <a:pt x="7417" y="9227"/>
                </a:moveTo>
                <a:cubicBezTo>
                  <a:pt x="7519" y="9227"/>
                  <a:pt x="7613" y="9197"/>
                  <a:pt x="7714" y="9178"/>
                </a:cubicBezTo>
                <a:cubicBezTo>
                  <a:pt x="7888" y="9146"/>
                  <a:pt x="8062" y="9127"/>
                  <a:pt x="8235" y="9103"/>
                </a:cubicBezTo>
                <a:cubicBezTo>
                  <a:pt x="8260" y="9103"/>
                  <a:pt x="8268" y="9103"/>
                  <a:pt x="8285" y="9103"/>
                </a:cubicBezTo>
              </a:path>
              <a:path w="3548" h="993">
                <a:moveTo>
                  <a:pt x="9227" y="8458"/>
                </a:moveTo>
                <a:cubicBezTo>
                  <a:pt x="9296" y="8412"/>
                  <a:pt x="9378" y="8346"/>
                  <a:pt x="9475" y="8334"/>
                </a:cubicBezTo>
                <a:cubicBezTo>
                  <a:pt x="9572" y="8322"/>
                  <a:pt x="9693" y="8320"/>
                  <a:pt x="9748" y="8384"/>
                </a:cubicBezTo>
                <a:cubicBezTo>
                  <a:pt x="9848" y="8500"/>
                  <a:pt x="9644" y="8703"/>
                  <a:pt x="9575" y="8781"/>
                </a:cubicBezTo>
                <a:cubicBezTo>
                  <a:pt x="9567" y="8789"/>
                  <a:pt x="9558" y="8798"/>
                  <a:pt x="9550" y="8806"/>
                </a:cubicBezTo>
                <a:cubicBezTo>
                  <a:pt x="9654" y="8806"/>
                  <a:pt x="9747" y="8817"/>
                  <a:pt x="9847" y="8830"/>
                </a:cubicBezTo>
                <a:cubicBezTo>
                  <a:pt x="9904" y="8837"/>
                  <a:pt x="9915" y="8851"/>
                  <a:pt x="9947" y="8905"/>
                </a:cubicBezTo>
                <a:cubicBezTo>
                  <a:pt x="9998" y="8991"/>
                  <a:pt x="9910" y="9095"/>
                  <a:pt x="9847" y="9153"/>
                </a:cubicBezTo>
                <a:cubicBezTo>
                  <a:pt x="9775" y="9219"/>
                  <a:pt x="9622" y="9259"/>
                  <a:pt x="9525" y="9277"/>
                </a:cubicBezTo>
                <a:cubicBezTo>
                  <a:pt x="9454" y="9290"/>
                  <a:pt x="9337" y="9241"/>
                  <a:pt x="9277" y="9203"/>
                </a:cubicBezTo>
                <a:cubicBezTo>
                  <a:pt x="9234" y="9160"/>
                  <a:pt x="9215" y="9130"/>
                  <a:pt x="9203" y="9079"/>
                </a:cubicBezTo>
              </a:path>
              <a:path w="3548" h="993">
                <a:moveTo>
                  <a:pt x="10269" y="8434"/>
                </a:moveTo>
                <a:cubicBezTo>
                  <a:pt x="10299" y="8444"/>
                  <a:pt x="10314" y="8513"/>
                  <a:pt x="10319" y="8558"/>
                </a:cubicBezTo>
                <a:cubicBezTo>
                  <a:pt x="10326" y="8630"/>
                  <a:pt x="10319" y="8709"/>
                  <a:pt x="10319" y="8781"/>
                </a:cubicBezTo>
                <a:cubicBezTo>
                  <a:pt x="10411" y="8766"/>
                  <a:pt x="10498" y="8717"/>
                  <a:pt x="10592" y="8706"/>
                </a:cubicBezTo>
                <a:cubicBezTo>
                  <a:pt x="10685" y="8695"/>
                  <a:pt x="10793" y="8722"/>
                  <a:pt x="10864" y="8781"/>
                </a:cubicBezTo>
                <a:cubicBezTo>
                  <a:pt x="10918" y="8826"/>
                  <a:pt x="10910" y="8893"/>
                  <a:pt x="10889" y="8954"/>
                </a:cubicBezTo>
                <a:cubicBezTo>
                  <a:pt x="10849" y="9072"/>
                  <a:pt x="10757" y="9102"/>
                  <a:pt x="10666" y="9153"/>
                </a:cubicBezTo>
                <a:cubicBezTo>
                  <a:pt x="10586" y="9198"/>
                  <a:pt x="10499" y="9211"/>
                  <a:pt x="10418" y="9227"/>
                </a:cubicBezTo>
                <a:cubicBezTo>
                  <a:pt x="10362" y="9227"/>
                  <a:pt x="10340" y="9222"/>
                  <a:pt x="10319" y="9178"/>
                </a:cubicBezTo>
              </a:path>
              <a:path w="3548" h="993">
                <a:moveTo>
                  <a:pt x="10344" y="8384"/>
                </a:moveTo>
                <a:cubicBezTo>
                  <a:pt x="10474" y="8365"/>
                  <a:pt x="10611" y="8354"/>
                  <a:pt x="10740" y="8334"/>
                </a:cubicBezTo>
                <a:cubicBezTo>
                  <a:pt x="10777" y="8328"/>
                  <a:pt x="10882" y="8276"/>
                  <a:pt x="10914" y="8285"/>
                </a:cubicBezTo>
                <a:cubicBezTo>
                  <a:pt x="10931" y="8293"/>
                  <a:pt x="10947" y="8302"/>
                  <a:pt x="10964" y="8310"/>
                </a:cubicBezTo>
              </a:path>
              <a:path w="3548" h="993">
                <a:moveTo>
                  <a:pt x="8706" y="8855"/>
                </a:moveTo>
                <a:cubicBezTo>
                  <a:pt x="8706" y="8872"/>
                  <a:pt x="8706" y="8888"/>
                  <a:pt x="8706" y="8905"/>
                </a:cubicBezTo>
                <a:cubicBezTo>
                  <a:pt x="8780" y="8905"/>
                  <a:pt x="8836" y="8914"/>
                  <a:pt x="8905" y="8930"/>
                </a:cubicBezTo>
                <a:cubicBezTo>
                  <a:pt x="8972" y="8945"/>
                  <a:pt x="9041" y="8895"/>
                  <a:pt x="9103" y="8880"/>
                </a:cubicBezTo>
                <a:cubicBezTo>
                  <a:pt x="9111" y="8880"/>
                  <a:pt x="9120" y="8880"/>
                  <a:pt x="9128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6680" y="4098960"/>
            <a:ext cx="1117440" cy="349200"/>
          </a:xfrm>
          <a:custGeom>
            <a:avLst/>
            <a:gdLst/>
            <a:ahLst/>
            <a:rect l="l" t="t" r="r" b="b"/>
            <a:pathLst>
              <a:path w="3102" h="969">
                <a:moveTo>
                  <a:pt x="7739" y="11584"/>
                </a:moveTo>
                <a:cubicBezTo>
                  <a:pt x="7681" y="11584"/>
                  <a:pt x="7805" y="11584"/>
                  <a:pt x="7863" y="11584"/>
                </a:cubicBezTo>
                <a:cubicBezTo>
                  <a:pt x="7968" y="11584"/>
                  <a:pt x="8037" y="11560"/>
                  <a:pt x="8136" y="11534"/>
                </a:cubicBezTo>
                <a:cubicBezTo>
                  <a:pt x="8161" y="11534"/>
                  <a:pt x="8169" y="11534"/>
                  <a:pt x="8161" y="11559"/>
                </a:cubicBezTo>
              </a:path>
              <a:path w="3102" h="969">
                <a:moveTo>
                  <a:pt x="7739" y="11981"/>
                </a:moveTo>
                <a:cubicBezTo>
                  <a:pt x="7848" y="11963"/>
                  <a:pt x="7948" y="11935"/>
                  <a:pt x="8062" y="11931"/>
                </a:cubicBezTo>
                <a:cubicBezTo>
                  <a:pt x="8132" y="11928"/>
                  <a:pt x="8191" y="11911"/>
                  <a:pt x="8260" y="11906"/>
                </a:cubicBezTo>
                <a:cubicBezTo>
                  <a:pt x="8296" y="11903"/>
                  <a:pt x="8324" y="11888"/>
                  <a:pt x="8359" y="11881"/>
                </a:cubicBezTo>
              </a:path>
              <a:path w="3102" h="969">
                <a:moveTo>
                  <a:pt x="9624" y="11460"/>
                </a:moveTo>
                <a:cubicBezTo>
                  <a:pt x="9624" y="11394"/>
                  <a:pt x="9616" y="11543"/>
                  <a:pt x="9624" y="11609"/>
                </a:cubicBezTo>
                <a:cubicBezTo>
                  <a:pt x="9643" y="11754"/>
                  <a:pt x="9624" y="11912"/>
                  <a:pt x="9649" y="12055"/>
                </a:cubicBezTo>
                <a:cubicBezTo>
                  <a:pt x="9659" y="12111"/>
                  <a:pt x="9637" y="12252"/>
                  <a:pt x="9649" y="12278"/>
                </a:cubicBezTo>
                <a:cubicBezTo>
                  <a:pt x="9664" y="12312"/>
                  <a:pt x="9674" y="12407"/>
                  <a:pt x="9674" y="12303"/>
                </a:cubicBezTo>
              </a:path>
              <a:path w="3102" h="969">
                <a:moveTo>
                  <a:pt x="9996" y="11385"/>
                </a:moveTo>
                <a:cubicBezTo>
                  <a:pt x="10039" y="11471"/>
                  <a:pt x="10076" y="11586"/>
                  <a:pt x="10071" y="11683"/>
                </a:cubicBezTo>
                <a:cubicBezTo>
                  <a:pt x="10068" y="11737"/>
                  <a:pt x="9994" y="11893"/>
                  <a:pt x="10071" y="11931"/>
                </a:cubicBezTo>
                <a:cubicBezTo>
                  <a:pt x="10133" y="11962"/>
                  <a:pt x="10312" y="11872"/>
                  <a:pt x="10393" y="11881"/>
                </a:cubicBezTo>
                <a:cubicBezTo>
                  <a:pt x="10486" y="11891"/>
                  <a:pt x="10571" y="11927"/>
                  <a:pt x="10616" y="12005"/>
                </a:cubicBezTo>
                <a:cubicBezTo>
                  <a:pt x="10666" y="12090"/>
                  <a:pt x="10631" y="12136"/>
                  <a:pt x="10567" y="12204"/>
                </a:cubicBezTo>
                <a:cubicBezTo>
                  <a:pt x="10487" y="12289"/>
                  <a:pt x="10382" y="12292"/>
                  <a:pt x="10269" y="12303"/>
                </a:cubicBezTo>
                <a:cubicBezTo>
                  <a:pt x="10211" y="12303"/>
                  <a:pt x="10203" y="12303"/>
                  <a:pt x="10170" y="12303"/>
                </a:cubicBezTo>
              </a:path>
              <a:path w="3102" h="969">
                <a:moveTo>
                  <a:pt x="10145" y="11534"/>
                </a:moveTo>
                <a:cubicBezTo>
                  <a:pt x="10205" y="11474"/>
                  <a:pt x="10389" y="11467"/>
                  <a:pt x="10492" y="11460"/>
                </a:cubicBezTo>
                <a:cubicBezTo>
                  <a:pt x="10528" y="11458"/>
                  <a:pt x="10887" y="11460"/>
                  <a:pt x="10765" y="11460"/>
                </a:cubicBezTo>
              </a:path>
              <a:path w="3102" h="969">
                <a:moveTo>
                  <a:pt x="8855" y="11609"/>
                </a:moveTo>
                <a:cubicBezTo>
                  <a:pt x="8855" y="11633"/>
                  <a:pt x="8855" y="11641"/>
                  <a:pt x="8830" y="11633"/>
                </a:cubicBezTo>
                <a:cubicBezTo>
                  <a:pt x="8904" y="11652"/>
                  <a:pt x="8965" y="11658"/>
                  <a:pt x="9054" y="11658"/>
                </a:cubicBezTo>
                <a:cubicBezTo>
                  <a:pt x="9104" y="11658"/>
                  <a:pt x="9153" y="11658"/>
                  <a:pt x="9203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16120" y="5303880"/>
            <a:ext cx="18900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7268" y="14833"/>
                </a:moveTo>
                <a:cubicBezTo>
                  <a:pt x="7360" y="14814"/>
                  <a:pt x="7445" y="14799"/>
                  <a:pt x="7541" y="14784"/>
                </a:cubicBezTo>
                <a:cubicBezTo>
                  <a:pt x="7624" y="14771"/>
                  <a:pt x="7705" y="14745"/>
                  <a:pt x="7789" y="14734"/>
                </a:cubicBezTo>
              </a:path>
              <a:path w="522" h="547">
                <a:moveTo>
                  <a:pt x="7293" y="15280"/>
                </a:moveTo>
                <a:cubicBezTo>
                  <a:pt x="7388" y="15264"/>
                  <a:pt x="7498" y="15237"/>
                  <a:pt x="7590" y="15205"/>
                </a:cubicBezTo>
                <a:cubicBezTo>
                  <a:pt x="7657" y="15182"/>
                  <a:pt x="7696" y="15158"/>
                  <a:pt x="7764" y="15131"/>
                </a:cubicBezTo>
                <a:cubicBezTo>
                  <a:pt x="7789" y="15131"/>
                  <a:pt x="7797" y="15131"/>
                  <a:pt x="7789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81240" y="5160960"/>
            <a:ext cx="704880" cy="376200"/>
          </a:xfrm>
          <a:custGeom>
            <a:avLst/>
            <a:gdLst/>
            <a:ahLst/>
            <a:rect l="l" t="t" r="r" b="b"/>
            <a:pathLst>
              <a:path w="1960" h="1043">
                <a:moveTo>
                  <a:pt x="9277" y="14337"/>
                </a:moveTo>
                <a:cubicBezTo>
                  <a:pt x="9305" y="14450"/>
                  <a:pt x="9355" y="14556"/>
                  <a:pt x="9376" y="14684"/>
                </a:cubicBezTo>
                <a:cubicBezTo>
                  <a:pt x="9402" y="14843"/>
                  <a:pt x="9354" y="15056"/>
                  <a:pt x="9401" y="15205"/>
                </a:cubicBezTo>
                <a:cubicBezTo>
                  <a:pt x="9429" y="15233"/>
                  <a:pt x="9438" y="15237"/>
                  <a:pt x="9426" y="15180"/>
                </a:cubicBezTo>
              </a:path>
              <a:path w="1960" h="1043">
                <a:moveTo>
                  <a:pt x="9699" y="14461"/>
                </a:moveTo>
                <a:cubicBezTo>
                  <a:pt x="9859" y="14395"/>
                  <a:pt x="10020" y="14336"/>
                  <a:pt x="10195" y="14387"/>
                </a:cubicBezTo>
                <a:cubicBezTo>
                  <a:pt x="10343" y="14430"/>
                  <a:pt x="10383" y="14595"/>
                  <a:pt x="10368" y="14734"/>
                </a:cubicBezTo>
                <a:cubicBezTo>
                  <a:pt x="10352" y="14883"/>
                  <a:pt x="10231" y="15036"/>
                  <a:pt x="10120" y="15131"/>
                </a:cubicBezTo>
                <a:cubicBezTo>
                  <a:pt x="10008" y="15227"/>
                  <a:pt x="9922" y="15200"/>
                  <a:pt x="9798" y="15156"/>
                </a:cubicBezTo>
                <a:cubicBezTo>
                  <a:pt x="9697" y="15120"/>
                  <a:pt x="9659" y="15096"/>
                  <a:pt x="9674" y="14982"/>
                </a:cubicBezTo>
                <a:cubicBezTo>
                  <a:pt x="9687" y="14878"/>
                  <a:pt x="9856" y="14888"/>
                  <a:pt x="9922" y="14908"/>
                </a:cubicBezTo>
                <a:cubicBezTo>
                  <a:pt x="10020" y="14939"/>
                  <a:pt x="10113" y="14994"/>
                  <a:pt x="10195" y="15056"/>
                </a:cubicBezTo>
                <a:cubicBezTo>
                  <a:pt x="10251" y="15098"/>
                  <a:pt x="10317" y="15133"/>
                  <a:pt x="10368" y="15180"/>
                </a:cubicBezTo>
                <a:cubicBezTo>
                  <a:pt x="10419" y="15228"/>
                  <a:pt x="10460" y="15268"/>
                  <a:pt x="10492" y="15329"/>
                </a:cubicBezTo>
                <a:cubicBezTo>
                  <a:pt x="10500" y="15346"/>
                  <a:pt x="10509" y="15362"/>
                  <a:pt x="10517" y="15379"/>
                </a:cubicBezTo>
              </a:path>
              <a:path w="1960" h="1043">
                <a:moveTo>
                  <a:pt x="8582" y="14858"/>
                </a:moveTo>
                <a:cubicBezTo>
                  <a:pt x="8515" y="14858"/>
                  <a:pt x="8665" y="14841"/>
                  <a:pt x="8731" y="14833"/>
                </a:cubicBezTo>
                <a:cubicBezTo>
                  <a:pt x="8760" y="14829"/>
                  <a:pt x="8984" y="14833"/>
                  <a:pt x="8855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t’s try some together: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15880" y="1657440"/>
          <a:ext cx="673200" cy="88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5880" y="1657440"/>
                    <a:ext cx="673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295280" y="2908440"/>
          <a:ext cx="143532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908440"/>
                    <a:ext cx="1435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359000" y="3822840"/>
          <a:ext cx="672840" cy="888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59000" y="3822840"/>
                    <a:ext cx="6728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276720" y="2057400"/>
          <a:ext cx="914400" cy="26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76720" y="2057400"/>
                    <a:ext cx="9144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187280" y="5124600"/>
          <a:ext cx="161316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87280" y="5124600"/>
                    <a:ext cx="1613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428920" y="2044800"/>
            <a:ext cx="223920" cy="322200"/>
          </a:xfrm>
          <a:custGeom>
            <a:avLst/>
            <a:gdLst/>
            <a:ahLst/>
            <a:rect l="l" t="t" r="r" b="b"/>
            <a:pathLst>
              <a:path w="621" h="894">
                <a:moveTo>
                  <a:pt x="6747" y="5779"/>
                </a:moveTo>
                <a:cubicBezTo>
                  <a:pt x="6860" y="5763"/>
                  <a:pt x="6985" y="5742"/>
                  <a:pt x="7094" y="5705"/>
                </a:cubicBezTo>
                <a:cubicBezTo>
                  <a:pt x="7111" y="5697"/>
                  <a:pt x="7127" y="5688"/>
                  <a:pt x="7144" y="5680"/>
                </a:cubicBezTo>
              </a:path>
              <a:path w="621" h="894">
                <a:moveTo>
                  <a:pt x="6772" y="6573"/>
                </a:moveTo>
                <a:cubicBezTo>
                  <a:pt x="6884" y="6554"/>
                  <a:pt x="6985" y="6504"/>
                  <a:pt x="7094" y="6474"/>
                </a:cubicBezTo>
                <a:cubicBezTo>
                  <a:pt x="7182" y="6450"/>
                  <a:pt x="7291" y="6403"/>
                  <a:pt x="7367" y="64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38320" y="2044800"/>
            <a:ext cx="544680" cy="420480"/>
          </a:xfrm>
          <a:custGeom>
            <a:avLst/>
            <a:gdLst/>
            <a:ahLst/>
            <a:rect l="l" t="t" r="r" b="b"/>
            <a:pathLst>
              <a:path w="1514" h="1167">
                <a:moveTo>
                  <a:pt x="9103" y="5680"/>
                </a:moveTo>
                <a:cubicBezTo>
                  <a:pt x="9077" y="5760"/>
                  <a:pt x="9056" y="5862"/>
                  <a:pt x="9054" y="5978"/>
                </a:cubicBezTo>
                <a:cubicBezTo>
                  <a:pt x="9054" y="6004"/>
                  <a:pt x="9045" y="6280"/>
                  <a:pt x="9079" y="6300"/>
                </a:cubicBezTo>
                <a:cubicBezTo>
                  <a:pt x="9183" y="6363"/>
                  <a:pt x="9319" y="6313"/>
                  <a:pt x="9426" y="6300"/>
                </a:cubicBezTo>
                <a:cubicBezTo>
                  <a:pt x="9509" y="6290"/>
                  <a:pt x="9535" y="6255"/>
                  <a:pt x="9599" y="6226"/>
                </a:cubicBezTo>
                <a:cubicBezTo>
                  <a:pt x="9607" y="6226"/>
                  <a:pt x="9616" y="6226"/>
                  <a:pt x="9624" y="6226"/>
                </a:cubicBezTo>
              </a:path>
              <a:path w="1514" h="1167">
                <a:moveTo>
                  <a:pt x="9624" y="5705"/>
                </a:moveTo>
                <a:cubicBezTo>
                  <a:pt x="9624" y="5868"/>
                  <a:pt x="9632" y="6039"/>
                  <a:pt x="9649" y="6201"/>
                </a:cubicBezTo>
                <a:cubicBezTo>
                  <a:pt x="9668" y="6385"/>
                  <a:pt x="9674" y="6561"/>
                  <a:pt x="9674" y="6747"/>
                </a:cubicBezTo>
                <a:cubicBezTo>
                  <a:pt x="9674" y="6805"/>
                  <a:pt x="9674" y="6813"/>
                  <a:pt x="9674" y="6846"/>
                </a:cubicBezTo>
              </a:path>
              <a:path w="1514" h="1167">
                <a:moveTo>
                  <a:pt x="8161" y="6400"/>
                </a:moveTo>
                <a:cubicBezTo>
                  <a:pt x="8256" y="6400"/>
                  <a:pt x="8342" y="6382"/>
                  <a:pt x="8434" y="6375"/>
                </a:cubicBezTo>
                <a:cubicBezTo>
                  <a:pt x="8540" y="6367"/>
                  <a:pt x="8650" y="6375"/>
                  <a:pt x="8756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4960" y="2973240"/>
            <a:ext cx="947880" cy="492120"/>
          </a:xfrm>
          <a:custGeom>
            <a:avLst/>
            <a:gdLst/>
            <a:ahLst/>
            <a:rect l="l" t="t" r="r" b="b"/>
            <a:pathLst>
              <a:path w="2630" h="1365">
                <a:moveTo>
                  <a:pt x="7987" y="9004"/>
                </a:moveTo>
                <a:cubicBezTo>
                  <a:pt x="8005" y="8949"/>
                  <a:pt x="8143" y="8916"/>
                  <a:pt x="8210" y="8905"/>
                </a:cubicBezTo>
                <a:cubicBezTo>
                  <a:pt x="8255" y="8898"/>
                  <a:pt x="8312" y="8905"/>
                  <a:pt x="8359" y="8905"/>
                </a:cubicBezTo>
              </a:path>
              <a:path w="2630" h="1365">
                <a:moveTo>
                  <a:pt x="8062" y="9401"/>
                </a:moveTo>
                <a:cubicBezTo>
                  <a:pt x="8140" y="9401"/>
                  <a:pt x="8235" y="9391"/>
                  <a:pt x="8310" y="9376"/>
                </a:cubicBezTo>
                <a:cubicBezTo>
                  <a:pt x="8398" y="9358"/>
                  <a:pt x="8466" y="9351"/>
                  <a:pt x="8558" y="9351"/>
                </a:cubicBezTo>
                <a:cubicBezTo>
                  <a:pt x="8566" y="9351"/>
                  <a:pt x="8574" y="9351"/>
                  <a:pt x="8582" y="9351"/>
                </a:cubicBezTo>
              </a:path>
              <a:path w="2630" h="1365">
                <a:moveTo>
                  <a:pt x="10021" y="8260"/>
                </a:moveTo>
                <a:cubicBezTo>
                  <a:pt x="10021" y="8429"/>
                  <a:pt x="10006" y="8590"/>
                  <a:pt x="9996" y="8756"/>
                </a:cubicBezTo>
                <a:cubicBezTo>
                  <a:pt x="9992" y="8821"/>
                  <a:pt x="9996" y="8889"/>
                  <a:pt x="9996" y="8954"/>
                </a:cubicBezTo>
                <a:cubicBezTo>
                  <a:pt x="10108" y="8954"/>
                  <a:pt x="10208" y="8952"/>
                  <a:pt x="10319" y="8930"/>
                </a:cubicBezTo>
                <a:cubicBezTo>
                  <a:pt x="10377" y="8918"/>
                  <a:pt x="10576" y="8915"/>
                  <a:pt x="10616" y="8880"/>
                </a:cubicBezTo>
                <a:cubicBezTo>
                  <a:pt x="10616" y="8863"/>
                  <a:pt x="10616" y="8847"/>
                  <a:pt x="10616" y="8830"/>
                </a:cubicBezTo>
              </a:path>
              <a:path w="2630" h="1365">
                <a:moveTo>
                  <a:pt x="10567" y="8334"/>
                </a:moveTo>
                <a:cubicBezTo>
                  <a:pt x="10587" y="8475"/>
                  <a:pt x="10626" y="8582"/>
                  <a:pt x="10616" y="8731"/>
                </a:cubicBezTo>
                <a:cubicBezTo>
                  <a:pt x="10604" y="8904"/>
                  <a:pt x="10586" y="9083"/>
                  <a:pt x="10542" y="9252"/>
                </a:cubicBezTo>
                <a:cubicBezTo>
                  <a:pt x="10518" y="9346"/>
                  <a:pt x="10517" y="9427"/>
                  <a:pt x="10517" y="9525"/>
                </a:cubicBezTo>
                <a:cubicBezTo>
                  <a:pt x="10517" y="9545"/>
                  <a:pt x="10517" y="9662"/>
                  <a:pt x="10517" y="9599"/>
                </a:cubicBezTo>
              </a:path>
              <a:path w="2630" h="1365">
                <a:moveTo>
                  <a:pt x="9079" y="9103"/>
                </a:moveTo>
                <a:cubicBezTo>
                  <a:pt x="9159" y="9087"/>
                  <a:pt x="9243" y="9061"/>
                  <a:pt x="9327" y="9054"/>
                </a:cubicBezTo>
                <a:cubicBezTo>
                  <a:pt x="9462" y="9042"/>
                  <a:pt x="9511" y="9073"/>
                  <a:pt x="9624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4259160"/>
            <a:ext cx="15228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6350" y="11857"/>
                </a:moveTo>
                <a:cubicBezTo>
                  <a:pt x="6276" y="11857"/>
                  <a:pt x="6472" y="11857"/>
                  <a:pt x="6474" y="11857"/>
                </a:cubicBezTo>
                <a:cubicBezTo>
                  <a:pt x="6550" y="11857"/>
                  <a:pt x="6563" y="11852"/>
                  <a:pt x="6648" y="11832"/>
                </a:cubicBezTo>
              </a:path>
              <a:path w="423" h="472">
                <a:moveTo>
                  <a:pt x="6350" y="12303"/>
                </a:moveTo>
                <a:cubicBezTo>
                  <a:pt x="6299" y="12303"/>
                  <a:pt x="6451" y="12238"/>
                  <a:pt x="6474" y="12229"/>
                </a:cubicBezTo>
                <a:cubicBezTo>
                  <a:pt x="6535" y="12205"/>
                  <a:pt x="6646" y="12232"/>
                  <a:pt x="6697" y="12204"/>
                </a:cubicBezTo>
                <a:cubicBezTo>
                  <a:pt x="6720" y="12181"/>
                  <a:pt x="6724" y="12173"/>
                  <a:pt x="6747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46240" y="4187880"/>
            <a:ext cx="277920" cy="384120"/>
          </a:xfrm>
          <a:custGeom>
            <a:avLst/>
            <a:gdLst/>
            <a:ahLst/>
            <a:rect l="l" t="t" r="r" b="b"/>
            <a:pathLst>
              <a:path w="769" h="1068">
                <a:moveTo>
                  <a:pt x="8186" y="11807"/>
                </a:moveTo>
                <a:cubicBezTo>
                  <a:pt x="8244" y="11771"/>
                  <a:pt x="8372" y="11651"/>
                  <a:pt x="8434" y="11633"/>
                </a:cubicBezTo>
                <a:cubicBezTo>
                  <a:pt x="8539" y="11603"/>
                  <a:pt x="8683" y="11628"/>
                  <a:pt x="8756" y="11708"/>
                </a:cubicBezTo>
                <a:cubicBezTo>
                  <a:pt x="8865" y="11828"/>
                  <a:pt x="8827" y="11903"/>
                  <a:pt x="8731" y="12005"/>
                </a:cubicBezTo>
                <a:cubicBezTo>
                  <a:pt x="8682" y="12057"/>
                  <a:pt x="8662" y="12055"/>
                  <a:pt x="8607" y="12080"/>
                </a:cubicBezTo>
                <a:cubicBezTo>
                  <a:pt x="8709" y="12080"/>
                  <a:pt x="8775" y="12066"/>
                  <a:pt x="8855" y="12129"/>
                </a:cubicBezTo>
                <a:cubicBezTo>
                  <a:pt x="8932" y="12189"/>
                  <a:pt x="8968" y="12334"/>
                  <a:pt x="8954" y="12427"/>
                </a:cubicBezTo>
                <a:cubicBezTo>
                  <a:pt x="8937" y="12538"/>
                  <a:pt x="8829" y="12630"/>
                  <a:pt x="8731" y="12675"/>
                </a:cubicBezTo>
                <a:cubicBezTo>
                  <a:pt x="8630" y="12721"/>
                  <a:pt x="8479" y="12710"/>
                  <a:pt x="8384" y="12650"/>
                </a:cubicBezTo>
                <a:cubicBezTo>
                  <a:pt x="8343" y="12624"/>
                  <a:pt x="8298" y="12582"/>
                  <a:pt x="8260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41960"/>
            <a:ext cx="276120" cy="241200"/>
          </a:xfrm>
          <a:custGeom>
            <a:avLst/>
            <a:gdLst/>
            <a:ahLst/>
            <a:rect l="l" t="t" r="r" b="b"/>
            <a:pathLst>
              <a:path w="770" h="671">
                <a:moveTo>
                  <a:pt x="8210" y="14784"/>
                </a:moveTo>
                <a:cubicBezTo>
                  <a:pt x="8294" y="14770"/>
                  <a:pt x="8376" y="14736"/>
                  <a:pt x="8458" y="14709"/>
                </a:cubicBezTo>
                <a:cubicBezTo>
                  <a:pt x="8553" y="14677"/>
                  <a:pt x="8617" y="14650"/>
                  <a:pt x="8682" y="14610"/>
                </a:cubicBezTo>
                <a:cubicBezTo>
                  <a:pt x="8711" y="14592"/>
                  <a:pt x="8789" y="14518"/>
                  <a:pt x="8756" y="14585"/>
                </a:cubicBezTo>
              </a:path>
              <a:path w="770" h="671">
                <a:moveTo>
                  <a:pt x="8359" y="15180"/>
                </a:moveTo>
                <a:cubicBezTo>
                  <a:pt x="8359" y="15205"/>
                  <a:pt x="8359" y="15213"/>
                  <a:pt x="8334" y="15205"/>
                </a:cubicBezTo>
                <a:cubicBezTo>
                  <a:pt x="8391" y="15224"/>
                  <a:pt x="8388" y="15235"/>
                  <a:pt x="8483" y="15205"/>
                </a:cubicBezTo>
                <a:cubicBezTo>
                  <a:pt x="8577" y="15176"/>
                  <a:pt x="8662" y="15150"/>
                  <a:pt x="8756" y="15131"/>
                </a:cubicBezTo>
                <a:cubicBezTo>
                  <a:pt x="8801" y="15122"/>
                  <a:pt x="8830" y="15093"/>
                  <a:pt x="8880" y="15081"/>
                </a:cubicBezTo>
                <a:cubicBezTo>
                  <a:pt x="8913" y="15073"/>
                  <a:pt x="8945" y="15063"/>
                  <a:pt x="8979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06840" y="5037120"/>
            <a:ext cx="250920" cy="463680"/>
          </a:xfrm>
          <a:custGeom>
            <a:avLst/>
            <a:gdLst/>
            <a:ahLst/>
            <a:rect l="l" t="t" r="r" b="b"/>
            <a:pathLst>
              <a:path w="696" h="1291">
                <a:moveTo>
                  <a:pt x="10468" y="14635"/>
                </a:moveTo>
                <a:cubicBezTo>
                  <a:pt x="10549" y="14751"/>
                  <a:pt x="10605" y="14879"/>
                  <a:pt x="10666" y="15007"/>
                </a:cubicBezTo>
                <a:cubicBezTo>
                  <a:pt x="10708" y="15095"/>
                  <a:pt x="10770" y="15245"/>
                  <a:pt x="10616" y="15280"/>
                </a:cubicBezTo>
                <a:cubicBezTo>
                  <a:pt x="10508" y="15305"/>
                  <a:pt x="10357" y="15305"/>
                  <a:pt x="10319" y="15180"/>
                </a:cubicBezTo>
                <a:cubicBezTo>
                  <a:pt x="10294" y="15099"/>
                  <a:pt x="10264" y="14943"/>
                  <a:pt x="10269" y="14858"/>
                </a:cubicBezTo>
                <a:cubicBezTo>
                  <a:pt x="10277" y="14723"/>
                  <a:pt x="10415" y="14635"/>
                  <a:pt x="10492" y="14536"/>
                </a:cubicBezTo>
                <a:cubicBezTo>
                  <a:pt x="10557" y="14453"/>
                  <a:pt x="10591" y="14383"/>
                  <a:pt x="10616" y="14288"/>
                </a:cubicBezTo>
                <a:cubicBezTo>
                  <a:pt x="10650" y="14159"/>
                  <a:pt x="10660" y="14075"/>
                  <a:pt x="10517" y="14015"/>
                </a:cubicBezTo>
                <a:cubicBezTo>
                  <a:pt x="10400" y="13966"/>
                  <a:pt x="10283" y="13995"/>
                  <a:pt x="10170" y="14039"/>
                </a:cubicBezTo>
                <a:cubicBezTo>
                  <a:pt x="10085" y="14072"/>
                  <a:pt x="10038" y="14151"/>
                  <a:pt x="10021" y="14238"/>
                </a:cubicBezTo>
                <a:cubicBezTo>
                  <a:pt x="10010" y="14294"/>
                  <a:pt x="10087" y="14447"/>
                  <a:pt x="10120" y="14486"/>
                </a:cubicBezTo>
                <a:cubicBezTo>
                  <a:pt x="10167" y="14541"/>
                  <a:pt x="10237" y="14604"/>
                  <a:pt x="10294" y="14660"/>
                </a:cubicBezTo>
                <a:cubicBezTo>
                  <a:pt x="10324" y="14689"/>
                  <a:pt x="10338" y="14694"/>
                  <a:pt x="10368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y some on your own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0 (-4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-5 (1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-2 (-13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 9 (-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.) –12(-12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.) -8(9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.) 18 (-16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8.) -5 (-1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y some on your own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371600" y="1752480"/>
          <a:ext cx="49536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752480"/>
                    <a:ext cx="4953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523880" y="3429000"/>
          <a:ext cx="685800" cy="88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429000"/>
                    <a:ext cx="685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371600" y="5105520"/>
          <a:ext cx="168912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5105520"/>
                    <a:ext cx="1689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t’s take it a step further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there are more than 2 numbers being multiplied what would you d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ve from left to r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1.) -2(4)(-3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8(-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072040" y="3867120"/>
            <a:ext cx="1830240" cy="588960"/>
          </a:xfrm>
          <a:custGeom>
            <a:avLst/>
            <a:gdLst/>
            <a:ahLst/>
            <a:rect l="l" t="t" r="r" b="b"/>
            <a:pathLst>
              <a:path w="5086" h="1639">
                <a:moveTo>
                  <a:pt x="14387" y="11261"/>
                </a:moveTo>
                <a:cubicBezTo>
                  <a:pt x="14423" y="11241"/>
                  <a:pt x="14486" y="11196"/>
                  <a:pt x="14560" y="11187"/>
                </a:cubicBezTo>
                <a:cubicBezTo>
                  <a:pt x="14704" y="11169"/>
                  <a:pt x="14843" y="11250"/>
                  <a:pt x="14858" y="11410"/>
                </a:cubicBezTo>
                <a:cubicBezTo>
                  <a:pt x="14875" y="11594"/>
                  <a:pt x="14654" y="11803"/>
                  <a:pt x="14511" y="11881"/>
                </a:cubicBezTo>
                <a:cubicBezTo>
                  <a:pt x="14372" y="11956"/>
                  <a:pt x="14219" y="11958"/>
                  <a:pt x="14114" y="11832"/>
                </a:cubicBezTo>
                <a:cubicBezTo>
                  <a:pt x="14106" y="11815"/>
                  <a:pt x="14097" y="11799"/>
                  <a:pt x="14089" y="11782"/>
                </a:cubicBezTo>
                <a:cubicBezTo>
                  <a:pt x="14184" y="11672"/>
                  <a:pt x="14241" y="11720"/>
                  <a:pt x="14362" y="11782"/>
                </a:cubicBezTo>
                <a:cubicBezTo>
                  <a:pt x="14485" y="11846"/>
                  <a:pt x="14507" y="11915"/>
                  <a:pt x="14610" y="12005"/>
                </a:cubicBezTo>
                <a:cubicBezTo>
                  <a:pt x="14700" y="12073"/>
                  <a:pt x="14726" y="12088"/>
                  <a:pt x="14759" y="12154"/>
                </a:cubicBezTo>
              </a:path>
              <a:path w="5086" h="1639">
                <a:moveTo>
                  <a:pt x="15925" y="10988"/>
                </a:moveTo>
                <a:cubicBezTo>
                  <a:pt x="15869" y="10908"/>
                  <a:pt x="15704" y="11065"/>
                  <a:pt x="15652" y="11112"/>
                </a:cubicBezTo>
                <a:cubicBezTo>
                  <a:pt x="15482" y="11265"/>
                  <a:pt x="15336" y="11416"/>
                  <a:pt x="15354" y="11658"/>
                </a:cubicBezTo>
                <a:cubicBezTo>
                  <a:pt x="15368" y="11853"/>
                  <a:pt x="15465" y="11919"/>
                  <a:pt x="15627" y="11981"/>
                </a:cubicBezTo>
              </a:path>
              <a:path w="5086" h="1639">
                <a:moveTo>
                  <a:pt x="16272" y="11237"/>
                </a:moveTo>
                <a:cubicBezTo>
                  <a:pt x="16253" y="11329"/>
                  <a:pt x="16182" y="11399"/>
                  <a:pt x="16148" y="11485"/>
                </a:cubicBezTo>
                <a:cubicBezTo>
                  <a:pt x="16087" y="11640"/>
                  <a:pt x="16084" y="11740"/>
                  <a:pt x="16297" y="11757"/>
                </a:cubicBezTo>
                <a:cubicBezTo>
                  <a:pt x="16382" y="11764"/>
                  <a:pt x="16486" y="11717"/>
                  <a:pt x="16545" y="11658"/>
                </a:cubicBezTo>
              </a:path>
              <a:path w="5086" h="1639">
                <a:moveTo>
                  <a:pt x="16669" y="11311"/>
                </a:moveTo>
                <a:cubicBezTo>
                  <a:pt x="16598" y="11399"/>
                  <a:pt x="16568" y="11549"/>
                  <a:pt x="16545" y="11658"/>
                </a:cubicBezTo>
                <a:cubicBezTo>
                  <a:pt x="16529" y="11734"/>
                  <a:pt x="16428" y="12013"/>
                  <a:pt x="16446" y="12080"/>
                </a:cubicBezTo>
                <a:cubicBezTo>
                  <a:pt x="16454" y="12080"/>
                  <a:pt x="16462" y="12080"/>
                  <a:pt x="16470" y="12080"/>
                </a:cubicBezTo>
              </a:path>
              <a:path w="5086" h="1639">
                <a:moveTo>
                  <a:pt x="16718" y="10740"/>
                </a:moveTo>
                <a:cubicBezTo>
                  <a:pt x="16880" y="10892"/>
                  <a:pt x="17040" y="11031"/>
                  <a:pt x="17140" y="11237"/>
                </a:cubicBezTo>
                <a:cubicBezTo>
                  <a:pt x="17222" y="11407"/>
                  <a:pt x="17226" y="11577"/>
                  <a:pt x="17190" y="11757"/>
                </a:cubicBezTo>
                <a:cubicBezTo>
                  <a:pt x="17174" y="11838"/>
                  <a:pt x="17162" y="11872"/>
                  <a:pt x="17115" y="11931"/>
                </a:cubicBezTo>
              </a:path>
              <a:path w="5086" h="1639">
                <a:moveTo>
                  <a:pt x="18033" y="10765"/>
                </a:moveTo>
                <a:cubicBezTo>
                  <a:pt x="17890" y="10736"/>
                  <a:pt x="17742" y="10798"/>
                  <a:pt x="17636" y="10914"/>
                </a:cubicBezTo>
                <a:cubicBezTo>
                  <a:pt x="17496" y="11068"/>
                  <a:pt x="17418" y="11278"/>
                  <a:pt x="17438" y="11485"/>
                </a:cubicBezTo>
                <a:cubicBezTo>
                  <a:pt x="17452" y="11634"/>
                  <a:pt x="17501" y="11717"/>
                  <a:pt x="17611" y="11807"/>
                </a:cubicBezTo>
              </a:path>
              <a:path w="5086" h="1639">
                <a:moveTo>
                  <a:pt x="18107" y="11261"/>
                </a:moveTo>
                <a:cubicBezTo>
                  <a:pt x="18237" y="11270"/>
                  <a:pt x="18420" y="11287"/>
                  <a:pt x="18504" y="11410"/>
                </a:cubicBezTo>
                <a:cubicBezTo>
                  <a:pt x="18619" y="11579"/>
                  <a:pt x="18403" y="11649"/>
                  <a:pt x="18306" y="11708"/>
                </a:cubicBezTo>
                <a:cubicBezTo>
                  <a:pt x="18298" y="11716"/>
                  <a:pt x="18289" y="11725"/>
                  <a:pt x="18281" y="11733"/>
                </a:cubicBezTo>
                <a:cubicBezTo>
                  <a:pt x="18352" y="11747"/>
                  <a:pt x="18472" y="11788"/>
                  <a:pt x="18529" y="11832"/>
                </a:cubicBezTo>
                <a:cubicBezTo>
                  <a:pt x="18539" y="11840"/>
                  <a:pt x="18572" y="11961"/>
                  <a:pt x="18554" y="11981"/>
                </a:cubicBezTo>
                <a:cubicBezTo>
                  <a:pt x="18472" y="12072"/>
                  <a:pt x="18422" y="12042"/>
                  <a:pt x="18331" y="12030"/>
                </a:cubicBezTo>
                <a:cubicBezTo>
                  <a:pt x="18253" y="12020"/>
                  <a:pt x="18228" y="12016"/>
                  <a:pt x="18157" y="11981"/>
                </a:cubicBezTo>
              </a:path>
              <a:path w="5086" h="1639">
                <a:moveTo>
                  <a:pt x="18703" y="10864"/>
                </a:moveTo>
                <a:cubicBezTo>
                  <a:pt x="18840" y="10895"/>
                  <a:pt x="18936" y="10980"/>
                  <a:pt x="19000" y="11112"/>
                </a:cubicBezTo>
                <a:cubicBezTo>
                  <a:pt x="19105" y="11330"/>
                  <a:pt x="19187" y="11638"/>
                  <a:pt x="19174" y="11881"/>
                </a:cubicBezTo>
                <a:cubicBezTo>
                  <a:pt x="19169" y="11969"/>
                  <a:pt x="19163" y="12132"/>
                  <a:pt x="19100" y="12204"/>
                </a:cubicBezTo>
                <a:cubicBezTo>
                  <a:pt x="19022" y="12294"/>
                  <a:pt x="18946" y="12354"/>
                  <a:pt x="18827" y="12378"/>
                </a:cubicBezTo>
                <a:cubicBezTo>
                  <a:pt x="18729" y="12398"/>
                  <a:pt x="18775" y="12372"/>
                  <a:pt x="18752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91080" y="4510080"/>
            <a:ext cx="206280" cy="401760"/>
          </a:xfrm>
          <a:custGeom>
            <a:avLst/>
            <a:gdLst/>
            <a:ahLst/>
            <a:rect l="l" t="t" r="r" b="b"/>
            <a:pathLst>
              <a:path w="571" h="1118">
                <a:moveTo>
                  <a:pt x="15478" y="13171"/>
                </a:moveTo>
                <a:cubicBezTo>
                  <a:pt x="15566" y="13274"/>
                  <a:pt x="15721" y="13422"/>
                  <a:pt x="15726" y="13568"/>
                </a:cubicBezTo>
                <a:cubicBezTo>
                  <a:pt x="15718" y="13585"/>
                  <a:pt x="15709" y="13601"/>
                  <a:pt x="15701" y="13618"/>
                </a:cubicBezTo>
                <a:cubicBezTo>
                  <a:pt x="15544" y="13650"/>
                  <a:pt x="15322" y="13675"/>
                  <a:pt x="15255" y="13469"/>
                </a:cubicBezTo>
                <a:cubicBezTo>
                  <a:pt x="15218" y="13355"/>
                  <a:pt x="15510" y="13187"/>
                  <a:pt x="15577" y="13122"/>
                </a:cubicBezTo>
                <a:cubicBezTo>
                  <a:pt x="15655" y="13046"/>
                  <a:pt x="15845" y="12925"/>
                  <a:pt x="15825" y="12799"/>
                </a:cubicBezTo>
                <a:cubicBezTo>
                  <a:pt x="15806" y="12675"/>
                  <a:pt x="15641" y="12559"/>
                  <a:pt x="15528" y="12526"/>
                </a:cubicBezTo>
                <a:cubicBezTo>
                  <a:pt x="15450" y="12503"/>
                  <a:pt x="15327" y="12656"/>
                  <a:pt x="15304" y="12725"/>
                </a:cubicBezTo>
                <a:cubicBezTo>
                  <a:pt x="15263" y="12848"/>
                  <a:pt x="15404" y="12853"/>
                  <a:pt x="15453" y="12923"/>
                </a:cubicBezTo>
                <a:cubicBezTo>
                  <a:pt x="15491" y="12976"/>
                  <a:pt x="15478" y="13035"/>
                  <a:pt x="15478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2000" y="4419720"/>
            <a:ext cx="231840" cy="455400"/>
          </a:xfrm>
          <a:custGeom>
            <a:avLst/>
            <a:gdLst/>
            <a:ahLst/>
            <a:rect l="l" t="t" r="r" b="b"/>
            <a:pathLst>
              <a:path w="646" h="1266">
                <a:moveTo>
                  <a:pt x="16594" y="12278"/>
                </a:moveTo>
                <a:cubicBezTo>
                  <a:pt x="16462" y="12352"/>
                  <a:pt x="16356" y="12445"/>
                  <a:pt x="16247" y="12551"/>
                </a:cubicBezTo>
                <a:cubicBezTo>
                  <a:pt x="16073" y="12721"/>
                  <a:pt x="15920" y="12912"/>
                  <a:pt x="15949" y="13171"/>
                </a:cubicBezTo>
                <a:cubicBezTo>
                  <a:pt x="15954" y="13219"/>
                  <a:pt x="15998" y="13543"/>
                  <a:pt x="16098" y="13543"/>
                </a:cubicBezTo>
                <a:cubicBezTo>
                  <a:pt x="16131" y="13535"/>
                  <a:pt x="16164" y="13527"/>
                  <a:pt x="16197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38920" y="4562640"/>
            <a:ext cx="133200" cy="260280"/>
          </a:xfrm>
          <a:custGeom>
            <a:avLst/>
            <a:gdLst/>
            <a:ahLst/>
            <a:rect l="l" t="t" r="r" b="b"/>
            <a:pathLst>
              <a:path w="373" h="721">
                <a:moveTo>
                  <a:pt x="16619" y="12675"/>
                </a:moveTo>
                <a:cubicBezTo>
                  <a:pt x="16790" y="12675"/>
                  <a:pt x="16788" y="12638"/>
                  <a:pt x="16842" y="12774"/>
                </a:cubicBezTo>
                <a:cubicBezTo>
                  <a:pt x="16885" y="12881"/>
                  <a:pt x="16711" y="12914"/>
                  <a:pt x="16619" y="12948"/>
                </a:cubicBezTo>
                <a:cubicBezTo>
                  <a:pt x="16636" y="13000"/>
                  <a:pt x="16765" y="13002"/>
                  <a:pt x="16818" y="13047"/>
                </a:cubicBezTo>
                <a:cubicBezTo>
                  <a:pt x="16878" y="13098"/>
                  <a:pt x="16870" y="13232"/>
                  <a:pt x="16842" y="13295"/>
                </a:cubicBezTo>
                <a:cubicBezTo>
                  <a:pt x="16804" y="13380"/>
                  <a:pt x="16648" y="13408"/>
                  <a:pt x="16570" y="13395"/>
                </a:cubicBezTo>
                <a:cubicBezTo>
                  <a:pt x="16513" y="13367"/>
                  <a:pt x="16494" y="13351"/>
                  <a:pt x="16495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3120" y="4510080"/>
            <a:ext cx="125280" cy="419040"/>
          </a:xfrm>
          <a:custGeom>
            <a:avLst/>
            <a:gdLst/>
            <a:ahLst/>
            <a:rect l="l" t="t" r="r" b="b"/>
            <a:pathLst>
              <a:path w="349" h="1167">
                <a:moveTo>
                  <a:pt x="17090" y="12526"/>
                </a:moveTo>
                <a:cubicBezTo>
                  <a:pt x="17206" y="12549"/>
                  <a:pt x="17302" y="12650"/>
                  <a:pt x="17363" y="12750"/>
                </a:cubicBezTo>
                <a:cubicBezTo>
                  <a:pt x="17447" y="12889"/>
                  <a:pt x="17466" y="13115"/>
                  <a:pt x="17438" y="13271"/>
                </a:cubicBezTo>
                <a:cubicBezTo>
                  <a:pt x="17407" y="13443"/>
                  <a:pt x="17325" y="13608"/>
                  <a:pt x="17165" y="13692"/>
                </a:cubicBezTo>
                <a:cubicBezTo>
                  <a:pt x="17114" y="13692"/>
                  <a:pt x="17100" y="13667"/>
                  <a:pt x="17115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9800" y="5106960"/>
            <a:ext cx="268200" cy="331920"/>
          </a:xfrm>
          <a:custGeom>
            <a:avLst/>
            <a:gdLst/>
            <a:ahLst/>
            <a:rect l="l" t="t" r="r" b="b"/>
            <a:pathLst>
              <a:path w="746" h="919">
                <a:moveTo>
                  <a:pt x="15280" y="14238"/>
                </a:moveTo>
                <a:cubicBezTo>
                  <a:pt x="15359" y="14210"/>
                  <a:pt x="15487" y="14147"/>
                  <a:pt x="15577" y="14188"/>
                </a:cubicBezTo>
                <a:cubicBezTo>
                  <a:pt x="15694" y="14241"/>
                  <a:pt x="15830" y="14342"/>
                  <a:pt x="15801" y="14486"/>
                </a:cubicBezTo>
                <a:cubicBezTo>
                  <a:pt x="15767" y="14657"/>
                  <a:pt x="15636" y="14817"/>
                  <a:pt x="15478" y="14883"/>
                </a:cubicBezTo>
                <a:cubicBezTo>
                  <a:pt x="15365" y="14931"/>
                  <a:pt x="15172" y="14889"/>
                  <a:pt x="15081" y="14808"/>
                </a:cubicBezTo>
                <a:cubicBezTo>
                  <a:pt x="15026" y="14759"/>
                  <a:pt x="15103" y="14631"/>
                  <a:pt x="15156" y="14610"/>
                </a:cubicBezTo>
                <a:cubicBezTo>
                  <a:pt x="15253" y="14571"/>
                  <a:pt x="15425" y="14781"/>
                  <a:pt x="15478" y="14833"/>
                </a:cubicBezTo>
                <a:cubicBezTo>
                  <a:pt x="15556" y="14908"/>
                  <a:pt x="15617" y="15016"/>
                  <a:pt x="15701" y="15081"/>
                </a:cubicBezTo>
                <a:cubicBezTo>
                  <a:pt x="15718" y="15089"/>
                  <a:pt x="15734" y="15098"/>
                  <a:pt x="15751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76920" y="5170320"/>
            <a:ext cx="179280" cy="16056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16197" y="14362"/>
                </a:moveTo>
                <a:cubicBezTo>
                  <a:pt x="16197" y="14443"/>
                  <a:pt x="16159" y="14538"/>
                  <a:pt x="16123" y="14610"/>
                </a:cubicBezTo>
                <a:cubicBezTo>
                  <a:pt x="16094" y="14668"/>
                  <a:pt x="16062" y="14681"/>
                  <a:pt x="16049" y="14734"/>
                </a:cubicBezTo>
                <a:cubicBezTo>
                  <a:pt x="16154" y="14770"/>
                  <a:pt x="16177" y="14805"/>
                  <a:pt x="16297" y="14808"/>
                </a:cubicBezTo>
                <a:cubicBezTo>
                  <a:pt x="16380" y="14810"/>
                  <a:pt x="16462" y="14808"/>
                  <a:pt x="16545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02200" y="5205240"/>
            <a:ext cx="54000" cy="339840"/>
          </a:xfrm>
          <a:custGeom>
            <a:avLst/>
            <a:gdLst/>
            <a:ahLst/>
            <a:rect l="l" t="t" r="r" b="b"/>
            <a:pathLst>
              <a:path w="150" h="944">
                <a:moveTo>
                  <a:pt x="16545" y="14461"/>
                </a:moveTo>
                <a:cubicBezTo>
                  <a:pt x="16506" y="14597"/>
                  <a:pt x="16435" y="14709"/>
                  <a:pt x="16421" y="14858"/>
                </a:cubicBezTo>
                <a:cubicBezTo>
                  <a:pt x="16404" y="15033"/>
                  <a:pt x="16422" y="15178"/>
                  <a:pt x="16396" y="15354"/>
                </a:cubicBezTo>
                <a:cubicBezTo>
                  <a:pt x="16396" y="15371"/>
                  <a:pt x="16396" y="15387"/>
                  <a:pt x="16396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W pg. 151 2-12 even AND pg. 153 10-18 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0:04Z</dcterms:created>
  <dc:creator>ccps</dc:creator>
  <dc:description/>
  <dc:language>en-US</dc:language>
  <cp:lastModifiedBy>deanne elizabeth mcgrath</cp:lastModifiedBy>
  <dcterms:modified xsi:type="dcterms:W3CDTF">2011-04-14T17:36:38Z</dcterms:modified>
  <cp:revision>11</cp:revision>
  <dc:subject/>
  <dc:title>Unit 12: Integers </dc:title>
</cp:coreProperties>
</file>